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745-609C-44B2-B56C-08B2E98A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9FF-EE38-4B62-A835-4BEA9A6C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092-73E5-4466-806E-C057AF5B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483-2110-4BEB-83DB-9C72638F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964-9202-4BE2-AA9E-0D332083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FDB-BF55-4AD3-9ADF-5E383947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3C5-6CDE-45EA-B561-19484C0E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51D-7635-43F6-B625-9958895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3E1-EE45-4241-B76E-86CE8AA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85B-678D-4D26-A419-47A7C31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62E-13FF-472B-87A9-8B2D604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BD2-9339-4067-9B36-5058C4D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DC8F-5791-433D-9736-9CE3928FF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385000">
            <a:off x="3546000" y="-2827080"/>
            <a:ext cx="2232000" cy="78865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86520"/>
              <a:gd name="textAreaBottom" fmla="*/ 7886880 h 78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2362320"/>
            <a:ext cx="8580600" cy="2361960"/>
          </a:xfrm>
          <a:custGeom>
            <a:avLst/>
            <a:gdLst>
              <a:gd name="textAreaLeft" fmla="*/ 0 w 8580600"/>
              <a:gd name="textAreaRight" fmla="*/ 8580960 w 858060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9" y="0"/>
                </a:lnTo>
                <a:lnTo>
                  <a:pt x="21600" y="10800"/>
                </a:lnTo>
                <a:lnTo>
                  <a:pt x="204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71880" y="2438280"/>
            <a:ext cx="139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8520" y="152280"/>
            <a:ext cx="17589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ifier les activités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7760" y="533520"/>
            <a:ext cx="1968480" cy="83808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ttre en œuvre la politique de reporting pour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160" y="76320"/>
            <a:ext cx="106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LO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2120" y="4844520"/>
            <a:ext cx="8089920" cy="1936800"/>
          </a:xfrm>
          <a:prstGeom prst="flowChartOffpageConnector">
            <a:avLst/>
          </a:prstGeom>
          <a:solidFill>
            <a:srgbClr val="3399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1240" y="598788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960" y="5562720"/>
            <a:ext cx="147780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éthodes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march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4040" y="556272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velopp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98720" y="557388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nag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naissances (référentiel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57560" y="4952880"/>
            <a:ext cx="109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840" y="1828800"/>
            <a:ext cx="539640" cy="327672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27520" y="2666880"/>
            <a:ext cx="2883240" cy="1828800"/>
          </a:xfrm>
          <a:custGeom>
            <a:avLst/>
            <a:gdLst>
              <a:gd name="textAreaLeft" fmla="*/ 0 w 2883240"/>
              <a:gd name="textAreaRight" fmla="*/ 2883600 w 288324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compagner la stratégie de l’entreprise (mesure de la performance, analyses financières, communication financière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3280" y="2895480"/>
            <a:ext cx="4431960" cy="762120"/>
          </a:xfrm>
          <a:custGeom>
            <a:avLst/>
            <a:gdLst>
              <a:gd name="textAreaLeft" fmla="*/ 0 w 4431960"/>
              <a:gd name="textAreaRight" fmla="*/ 4431960 w 44319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duire les informations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collecte des données, activités de back-office, reporting de gestion, comptes de groupe 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4267080"/>
            <a:ext cx="3868560" cy="38124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arrêt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2057400"/>
            <a:ext cx="492120" cy="289548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2520" y="1066680"/>
            <a:ext cx="14763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6560" y="602460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coû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124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pecter la déont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656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, appliquer, respecter les n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280"/>
            <a:ext cx="154764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066680"/>
            <a:ext cx="147780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iloter les 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7440" y="1447920"/>
            <a:ext cx="1758960" cy="68580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809880"/>
            <a:ext cx="3024000" cy="3812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opérations de trésore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fé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2:57Z</dcterms:created>
  <dc:creator>Henri-Pierre Maders, Jean-Luc Masselin</dc:creator>
  <dc:description/>
  <dc:language>en-US</dc:language>
  <cp:lastModifiedBy>HPM</cp:lastModifiedBy>
  <dcterms:modified xsi:type="dcterms:W3CDTF">2004-04-02T06:43:36Z</dcterms:modified>
  <cp:revision>6</cp:revision>
  <dc:subject/>
  <dc:title>Contrôle interne des risques</dc:title>
</cp:coreProperties>
</file>